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475-5C12-4D41-BBDA-08F1983F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DE1-2F62-49B5-BB56-05FC02E9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679-80CB-4474-A5F2-35E05F48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0E6-4E80-4E2E-871C-A57C9EE9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6B67-CA78-4FDF-814B-05E24173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C31B-C78B-4C29-B7A1-1C202F3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AA3D-E1E5-42D2-87BC-2DFFD0D4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4137-F890-4E81-A803-BD08A869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B170-4C74-418C-8561-0FD4173E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F0EC-8D59-479D-AC29-AAD71A0B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111E-8A6F-4E64-A73C-E6252F9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917-35AD-4D98-80CB-82CBC218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14BB-5A86-41DE-9AE3-E7344F1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0EA3-5F50-4F9E-A8F3-5DC77CC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06F9-63A1-40DC-A387-DD501B59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066E-C921-4E87-8F1A-8722A115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2B25-ACCC-42C8-A5EF-FEDFE47A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50C-BE79-4C22-A733-96C63B6B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AB7-1134-4AED-BC04-0D39B328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E81-C0F6-4138-9A11-DEAB9694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FBF-D90A-4664-910F-DDB7CD5F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DE5-94FF-48F8-9557-33F494DE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6E7-84CB-4685-B269-EBA2BE19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051-19AA-4589-BFE0-BA8A48DF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F9FE-5180-4C8C-8733-53F0AC861E50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2d"/>
                </a:gs>
                <a:gs pos="100000">
                  <a:srgbClr val="00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d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C4AE-5014-4E8F-B4BF-59DBDAFBB3D7}" type="slidenum">
              <a:rPr b="0" lang="hu-H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abia HU"/>
              </a:rPr>
              <a:t>Imagini întâlnite în viaţa de zi cu zi</a:t>
            </a:r>
            <a:r>
              <a:rPr b="0" lang="en-US" sz="4400" spc="-1" strike="noStrike">
                <a:solidFill>
                  <a:srgbClr val="ccff99"/>
                </a:solidFill>
                <a:latin typeface="Arabia HU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4720" y="2636640"/>
            <a:ext cx="590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RPURI GEOMETRI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92360" y="3860640"/>
            <a:ext cx="218916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Clădiri din trecut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314880" cy="2276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30048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2953080" cy="2374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364000" y="4005360"/>
            <a:ext cx="28800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ial"/>
              </a:rPr>
              <a:t>C</a:t>
            </a: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lădiri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671640" cy="266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2374920" cy="2238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859280" y="4076640"/>
            <a:ext cx="3529080" cy="2305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219640" y="1413000"/>
            <a:ext cx="266544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545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Mobilă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15920" y="1268280"/>
            <a:ext cx="3484800" cy="252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42920" y="4164120"/>
            <a:ext cx="3241800" cy="2289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311640" cy="237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311280" cy="22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6600" y="290520"/>
            <a:ext cx="594828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Jucării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05000" y="1484280"/>
            <a:ext cx="3051000" cy="218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951280" cy="232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571760" y="3941640"/>
            <a:ext cx="2568600" cy="2367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435640" y="4076640"/>
            <a:ext cx="251928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ial"/>
              </a:rPr>
              <a:t>Juc</a:t>
            </a: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ăria rubic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384360" cy="2305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3313080" cy="2303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580000" y="1773360"/>
            <a:ext cx="259236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ccff99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ccff99"/>
                </a:solidFill>
                <a:latin typeface="Arial"/>
              </a:rPr>
              <a:t>rta”</a:t>
            </a:r>
            <a:r>
              <a:rPr b="0" i="1" lang="en-US" sz="6000" spc="-1" strike="noStrike">
                <a:solidFill>
                  <a:srgbClr val="ccff99"/>
                </a:solidFill>
                <a:latin typeface="Arabia HU"/>
              </a:rPr>
              <a:t>CUBISMUL</a:t>
            </a:r>
            <a:r>
              <a:rPr b="0" lang="en-US" sz="6000" spc="-1" strike="noStrike">
                <a:solidFill>
                  <a:srgbClr val="ccff99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2737080" cy="2305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00000" y="3941640"/>
            <a:ext cx="2232000" cy="2440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2232000" cy="1973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2886120" cy="25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abia HU"/>
              </a:rPr>
              <a:t>Interesant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7480" y="1755720"/>
            <a:ext cx="3170160" cy="21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00240" y="4140360"/>
            <a:ext cx="3084480" cy="2241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076720" y="4076640"/>
            <a:ext cx="3167280" cy="2305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364000" y="1898640"/>
            <a:ext cx="236700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abia HU"/>
              </a:rPr>
              <a:t>Interesant</a:t>
            </a:r>
            <a:endParaRPr b="0" lang="en-US" sz="60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273708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32480" y="1600200"/>
            <a:ext cx="227016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607000" y="3941640"/>
            <a:ext cx="2119320" cy="2189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971640" y="4005360"/>
            <a:ext cx="3168720" cy="218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1-01-27T14:40:20Z</dcterms:modified>
  <cp:revision>12</cp:revision>
  <dc:subject/>
  <dc:title>PowerPoint Presentation</dc:title>
</cp:coreProperties>
</file>